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B41-F0F0-40B2-95FC-3B0C0BC7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C3E5-3DC7-4E3B-A8AC-7E9C9945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DAECD-CC5A-4D30-B6C3-83B2D56C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FE5A9-DE94-43CF-9A65-F5DDC7D0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4E2A2-8B5A-434A-89EF-7230EC7E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E3143-15EC-4718-A7B0-9EA98EF0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F0FB1-0085-44A5-8883-4C48884E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B24BB-CE5F-40AD-A961-C235570B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64440-CE21-4E4C-8431-0CBBAC56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9AD35-A29B-4224-BFC0-DF9EAF36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02340-F7BA-43AE-B006-20309147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C9838-FCCC-4268-840D-0635ED2B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FDB6-1270-4C04-99B4-8D8D28E5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EF7B0-B1AE-421B-B77B-E3950119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FE58D-3EB9-48A3-BD3F-EC67E196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F0176-101B-4CB3-B6E8-7DD91A61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79FAE-2F9C-418D-9F8E-236A44BF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221D6-5DF9-43D7-878C-7DCB3985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13892-ACA4-46DE-8B19-90295C05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B2ABA-B2F3-46AB-9571-92955D72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18DD1-DE59-46BC-8370-95855DE5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69C5C-38D5-4282-B74F-7A89DB3C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5D0D2-D3B2-453B-990F-B124A11F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EF09-8314-4CA1-8C6C-F58374E5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60C92-0E71-49B0-8BDD-C6895DB0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8CE3F-E852-432C-AE07-AE4F262A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ABC35-A3F8-4B52-9D66-DF59C6FA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B2536-D21D-4A46-98FD-0861898A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368D4-5430-40D0-A811-B3B8680B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487AB-0CAE-4571-BA95-927B43A4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93C02-01C3-4946-9A4D-6A83A7B9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B63FC-A555-4362-ADE6-94BC6564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9BC32-C52F-4E7F-ADC7-8C1EC9E7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3BAE5-D523-4192-AB8D-98A4DCB2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BE83-3B08-4D34-B788-17B42163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CDC7E-40AE-4CF7-8743-8E6332B4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78DCC-E242-4975-BE82-5EF537B7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C2B3F-97F4-43F0-AB57-067F0EA0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75D1B-6253-4F26-AAFF-44EAFC61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8EE01-93B9-41AB-A01B-752C8CB6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274CD-8EEA-4B21-A9F9-03468099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52381-D167-4E96-9FDE-3783458B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04AC4-A3AB-4D7F-9823-63A95528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E36E5-ED9A-457F-A77D-8CED5221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43D45-67CF-4796-BF6D-277476DB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F064-1B71-4972-B79A-027A2F6C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98EEE-FF71-44B6-A45E-86A6DF31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F51C4-A9BF-4532-AC54-7D580FE7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9F419-D038-4AC4-AC03-24362C1E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5C2E7-D53A-4CA2-B6CD-FF167CC8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A91AB-D7F2-473E-9B08-D20D072C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E50A-E62F-4796-874A-30AF7448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7E40-F0A4-4718-A35C-83EE0C01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5711-D850-471F-B8D4-CFA08D87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70C1-0B81-45C7-8266-20A44C2C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7FF3-3929-4CA0-8885-CF8FB7BB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063-BC8C-4A51-81CD-14D30EFF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D65D-23D3-4EC5-93C9-38480B8B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C226-3EC9-44C5-AFA0-38B848EC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6339-5384-4BEA-A318-A3185679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BBAE-67AF-4126-AF9D-05FFB224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60B4-4790-4660-83F5-084B53A8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E920B-0847-4050-B882-75C3A9BA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F75A4-51FB-4026-9324-D887DD29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DB9BC-CEAF-4FA2-A899-1EBB51D5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F41A8-8D26-463F-B30B-4F492AB3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5FCB0-D4D1-454D-9533-00A2963A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6F5C-C262-43BA-A802-808578C3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BDA23-EEE6-4230-90DD-8744D2B6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83099-279C-426D-B6D0-962F1D9E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D3A6A-3B04-48F0-9C17-1D192F38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D8B99-0051-4BFF-BE40-8E75B0D8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AD6D0-E58E-4EE3-ACB1-CEC6B004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74578-2B93-4806-8B38-FC5D6BDF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6989B-48D1-4F99-B502-4B956E16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CAD6D-84B3-4C48-91A7-58E6CECC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AA9DA-43F1-412F-A47A-A722E040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CD7A9-E248-49BF-BA73-959EE001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E74A-FE86-428D-A97D-A1E6B9BA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F51B6-C7B3-4EE7-B8FA-7A027715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EDE96-98EE-4696-B48F-8A27234D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D4C3C-CD68-466B-B689-AF43948B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B565B-63B1-4790-AF99-98332CF9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08274-BC36-4B33-8CD5-9A999FFD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7548D-3AAE-43EA-9724-6DF99F8B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89F84-9A1E-4AD0-ACEF-FDFC8CFE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22DD3-C8C1-420B-B920-45753E2F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30745-CAAB-4D34-8923-B6FED1DE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E2D09-44AF-4B05-9BEC-97961A06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DE4B-11F0-4B89-A3B8-53B3C76D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02D58-B31F-4E37-AE63-1BE132DB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E0B87-FC42-4586-ACC0-C7CCA8A8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0238B-6A60-4A9F-8E4C-6E6434D8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4282D-E286-4680-B36F-F08B4FCE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B8572-E1F1-4894-8E08-786053C8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3015A-EC11-4656-AB1C-92AC2A97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2E770-8E40-4D0A-AB34-1BEC0E64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D2AE2-CBD4-4134-A8FA-45C27EC7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6ACF5-8429-405F-9D9A-837B12C9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F8997-06B0-41AF-B0BA-5C0F1CBB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7E7-0570-49C9-9C2E-C6B01DA5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57E29-4DDC-429A-8724-C0BBB6CE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C4B59-223F-4B6E-AAF0-0438CA6B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A7C9E-0315-46D6-9C17-961C9E0C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37A32-75AA-4957-B1CB-3DC0A5D5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A897A-DDAA-4FC7-97F4-18FE6B3D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9BA6B-FE56-41F6-81E7-B85CE9E5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3761C-91FE-4F06-94CE-84215400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284A4-6CE3-4A82-AC6A-B6FA9FB0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8B516-8668-452C-AFB6-F6E98EA5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4228F-4DFA-4980-AFA9-CE5C089E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061F-F755-4976-9AAA-E5A6EF1A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478C9-638A-469A-95CC-92AFBE3A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E3E0C-F2EF-41A2-965A-BDD959E3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0A417-C962-4C12-BD14-8528ECF8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FDBF5-EBCE-43A0-8421-0D2924F4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DB142-0065-4E17-883A-3C953B9A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5AB2D-52B6-4BBA-905C-D924186C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B5F3E-05B5-4641-9571-C9E4A019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2B393-ACB1-49AA-AED5-8AA25A9D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B2F04-6B85-4AA4-9A4E-FAD36437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0EDE7-8465-4343-A54B-1F28C99B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5A5F-606F-4DEF-89C5-22C91B02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84148-03B6-4F5F-94C3-D41AA381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2A3A7-1DB3-4151-87BA-8ED794E8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978D3-733B-46DB-8FF4-F17BD80B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72192-DBF9-44D5-BA36-00AA1DBD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52F6F-CD80-499D-AED1-37E15646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62D91-78F2-4CBC-B215-9D4F46CE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D36B8-7CCE-447B-B6FA-EDD8EAF1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96736-3851-472C-B765-2CBDB3D3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3DC71-BCB7-45BA-BAE7-BBACA5AF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2E8B9-ED4E-463D-97C5-4DCFF0EB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430F-0B13-49A5-ABC7-63F8CCCE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F0732-62A7-4ABF-9853-FBE2EFC3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05B08-DD10-4224-B2F9-41972986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4240E-C952-4CAD-B0A5-79E9AC74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F12F4-BDEC-4024-9381-863377C7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BD7B4-3D89-41A8-844A-405F6EAB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4E442-FA7F-41CF-A613-3679AC86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CCEEF-8377-4609-834A-BCBB7C8A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3FDB2-B2CD-4593-8047-6D9034F4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D0277-4FC6-4856-80D5-2F1140E7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499F8-58CF-455F-AA35-80892403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6286-E4BB-4C39-8F27-19A7782BE78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E228-A091-4645-A2D0-5C63251F759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15C0-8874-43E1-8E90-A1DA8C6CF0E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C59A-DF7F-4319-B666-E6A054E7528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71BD-1871-4C53-B6E1-A40933A33DB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907C-5356-4B82-89CB-0B8D32A8B39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2073-A731-47F1-8A57-B760C054968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453D-15B2-4F24-9C70-AA36A325BED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649C-E180-47A4-97EA-99CF5885BD0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EEF2-63DA-439C-A478-CE325D2AF20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3031-8F44-40C8-BFE8-33ADD03FB37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66F6-D779-496A-89F8-FF5D7761C15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85 Čoskoro sa na zem vrá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Čoskoro sa na zem vráti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Pán Ježiš, náš Kráľ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vezme k sebe svojich verných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sám nám sľub ten d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hviezdy na neb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vieť budú sa t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 večný kde im d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Spasiteľ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ých vykúpených k seb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i privi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mu srdce odovzdal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lásky, úprim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hviezdy na neb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vieť budú sa t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 večný kde im d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Spasiteľ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to každý, veľký, mal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čne Pána chvá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do svojej večnej sláv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by všetkých v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hviezdy na neb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vieť budú sa t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 večný kde im d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Spasiteľ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í, čo budú priprave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musia sa bá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edlho budú Pán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ť už privít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hviezdy na neb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vieť budú sa t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 večný kde im d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Spasiteľ sám.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4:02:13Z</dcterms:modified>
  <cp:revision>87</cp:revision>
  <dc:subject/>
  <dc:title>Je veľký náš Pán, on slávy je Kráľ Nech do všetkých strán  spev vrúcnych znie chvál.</dc:title>
</cp:coreProperties>
</file>